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5EF-74CE-4853-883C-FDA94309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2F9F-DFB0-47EB-9328-ECB0E368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FD15-3EF2-4629-BBF9-51E11422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A38-B96F-4603-BE89-C17F06E8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C8F-EBE7-4F3D-B9D1-0284574D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66F9-4A87-4409-A3D4-968AF35A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20B6-E534-478F-AB53-74FE6879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4A86-77AB-40CB-A137-BB1B96D3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AC46-CB43-4576-AB1E-CA4EC020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B635-44C0-4A75-A6A8-49E4308A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D27A-88ED-43D9-9EBD-BD9BDB25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5ADD-1BDF-4604-8167-48460A8A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2946-0D2B-4D41-B1F8-7291FCF31DB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此文件已经设置了账户权限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,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用当前软件版本无法检测您的权限状态。请安装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WPS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最新版本。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WPS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版本下载地址：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http://www.wps.cn/product/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4T13:02:08Z</dcterms:created>
  <dc:creator>fanweifeng</dc:creator>
  <dc:description/>
  <dc:language>en-US</dc:language>
  <cp:lastModifiedBy>ttt</cp:lastModifiedBy>
  <dcterms:modified xsi:type="dcterms:W3CDTF">2016-04-27T12:19:45Z</dcterms:modified>
  <cp:revision>2</cp:revision>
  <dc:subject/>
  <dc:title>该文件是WPS加密文件，请使用WPS客户端打开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13</vt:lpwstr>
  </property>
</Properties>
</file>