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542-0A58-4F38-B4B4-E25F6615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666-F633-44BC-8AAD-9BB2BD41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D94-4801-44DE-8B11-C9BE4A54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83FC-2D12-4AA6-B0A6-BA5B0E1B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F2C-6B3D-4F26-8759-01B6839D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92A-F550-4FBB-821E-3CBED70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590-A27F-4A79-8B03-D919147A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FCC-BA1B-4C2E-9E3B-A498E660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FFD-2AF8-4959-90B6-9C0BA674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C11-2371-4C38-8508-26E56FF5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248-A431-4EFB-8C84-16831C1B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111A-218D-49CA-B3DE-360CA2E2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2CA-3F4D-42D8-8C9B-B1ED7B62B94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此文件已经设置了账户权限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用当前软件版本无法检测您的权限状态。请安装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最新版本。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版本下载地址：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http://www.wps.cn/product/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4T13:02:08Z</dcterms:created>
  <dc:creator>fanweifeng</dc:creator>
  <dc:description/>
  <dc:language>en-US</dc:language>
  <cp:lastModifiedBy>ttt</cp:lastModifiedBy>
  <dcterms:modified xsi:type="dcterms:W3CDTF">2016-04-27T12:19:45Z</dcterms:modified>
  <cp:revision>2</cp:revision>
  <dc:subject/>
  <dc:title>该文件是WPS加密文件，请使用WPS客户端打开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13</vt:lpwstr>
  </property>
</Properties>
</file>